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4B71-57AB-4D84-A5B1-73B6ABE276DB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0CDD-673C-4DB8-B014-0A3B3A4B31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E89D-5DFC-420E-98E9-24BC1DBB97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8AEF-004F-4165-BEBC-E344B370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9C4C-6AB8-40CD-B1A3-5F270D7A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9283-806F-4466-9B24-9CFFA2B8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1E86-B5A7-4E2C-B60F-01C09AB3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02A1-13B0-4BE9-BC34-24BF909C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34D4-1DBA-4893-8FE6-D41635F8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4BEC-1054-48AF-9587-AFA4DED0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BFC1-7462-4F81-BF1C-2F2DAAB4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F572-4537-492A-8324-C021CA0B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D8E0-2125-4A82-9268-138E7715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E353-D6AA-4AAB-B53D-F4DF2226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37ED-9E36-4030-9C5F-48C94408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6B4F-6FE8-4EEF-805B-41DCFE92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A924-21C5-48A8-A1F7-C8963D93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DA9A-0012-484C-8BA3-06CBBFA8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0A3F-AB6D-4641-BE73-C25B3FC1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C349-3402-461A-938D-A1DB49BB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39A55-61FD-443F-BE5B-42772D50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43AD3-CEEE-4A38-B271-887EC013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AC4EC-ECFB-4307-91BC-9B19DDA8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6BA31-EB30-497D-998E-AA4AFE9E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F2CFE-6EF4-4DAB-A106-B57EA2AF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37A1-3B8A-42E7-8C7C-B3BEEF08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F5324-C31D-4BF0-8C60-F61890A8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D0300-71F2-4DB7-ADE0-D8818AB0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FA880-639E-45A0-BD67-4999484D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93B9E-1033-4FC2-96B2-8B12FA4B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9E9DE-9E80-485D-9756-03458265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23FF2-59DB-4E32-8C35-6BF6E3A9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E1411-E44F-4386-9726-FF60F3FC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6D6EF-6AA7-4564-A278-E2F0DC66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C9263-FB0E-4BE8-A09A-F16C3D68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C656A-06AC-4477-AF10-67E4BC07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E943-DDA1-4DDE-B058-E91CCFA0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B513F-8986-494F-8E99-3BFA3A5F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E5941-7FA2-4DFA-9252-F3852E0C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64C82-D4CE-4DF5-A170-A6DA4276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A54E1-A835-42CB-84C7-57C375D4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1AE5A-E82A-4BAC-BD85-C73232F7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02742-2853-4021-A98C-59DAEE9B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98816-312F-4353-BC3A-E30215D9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AE592-80BC-4B0D-B487-334585FE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7C290-0D05-41BA-883F-7E2829CA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4202-FD2B-4349-A6AC-6796F5CA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19F7-750F-4630-9BE3-62297C4D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7108-81DB-48F9-B19D-4523844E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2DD6-E77D-42C2-97C5-79F842C3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C59F-0260-4BE9-B48E-92FC7442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D627-7AEA-4BF6-9063-A28CE194686A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5DED-8A84-410E-8484-A0DC9611B1A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871B-A47E-4B02-B0AA-B684E2A08966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CBDD-6173-4634-A15E-17F1D269EBC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306E-33E5-4113-89BD-5769DE40FE13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07D2-3846-44A8-8C89-69DFA951651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395F-73EC-44D2-800B-B72221622BA0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681B-5FDC-4648-A6CC-BBA41AE9B9A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wsobserver.com/weather/drought/story/1016009.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J Developm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TextBox 3" descr=""/>
          <p:cNvPicPr/>
          <p:nvPr/>
        </p:nvPicPr>
        <p:blipFill>
          <a:blip r:embed="rId3"/>
          <a:stretch/>
        </p:blipFill>
        <p:spPr>
          <a:xfrm>
            <a:off x="2664000" y="4413240"/>
            <a:ext cx="37432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urface Area of Tan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1752480"/>
          <a:ext cx="8305920" cy="4645080"/>
        </p:xfrm>
        <a:graphic>
          <a:graphicData uri="http://schemas.openxmlformats.org/drawingml/2006/table">
            <a:tbl>
              <a:tblPr/>
              <a:tblGrid>
                <a:gridCol w="838080"/>
                <a:gridCol w="1067040"/>
                <a:gridCol w="758880"/>
                <a:gridCol w="993600"/>
                <a:gridCol w="914400"/>
                <a:gridCol w="1219320"/>
                <a:gridCol w="1365120"/>
                <a:gridCol w="1149480"/>
              </a:tblGrid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us (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 Area 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 (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 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SA 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 of Metal ($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 of Concrete ($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Cost ($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8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5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6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3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4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5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1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7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6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6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1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ust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2209320"/>
            <a:ext cx="7770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Viability vs. Co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 it really that good to have a 26m structur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 it </a:t>
            </a:r>
            <a:r>
              <a:rPr b="0" i="1" lang="en-GB" sz="2400" spc="-1" strike="noStrike">
                <a:solidFill>
                  <a:srgbClr val="000000"/>
                </a:solidFill>
                <a:latin typeface="Constantia"/>
              </a:rPr>
              <a:t>possibl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to have a 26m structure that will hold its weight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mount of water used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eway for water use of people in case they need more wa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Level of Accuracy (nearest whole number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sier to see the difference between fig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r Storage Tan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s a capacity of 742 000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s in the shape of a cylin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imens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adius: 4 met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Height: 15 met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5" descr=""/>
          <p:cNvPicPr/>
          <p:nvPr/>
        </p:nvPicPr>
        <p:blipFill>
          <a:blip r:embed="rId2"/>
          <a:stretch/>
        </p:blipFill>
        <p:spPr>
          <a:xfrm>
            <a:off x="476280" y="1311120"/>
            <a:ext cx="7832520" cy="14925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art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t kind of grain are we storing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w much grain are we putting in storag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kind of shape is the best for storing the gra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t kind of grain are we storing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ain can be used to make many types of fo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ce, corn, oats, ry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e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our purposes, we’ll pretend that we’re storing r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ow much grain are we putting in storag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he space that the cooked rice takes up is 3-4 times the space that uncooked rice takes up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ch person eats about 3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cooked rice per me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cooked rice ≈ 100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uncooked r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kind of shape is best for storing the gra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eal life ex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ylinder has the largest area for a fixed perime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ylinders are also used for sil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Examples of Grain Stora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Content Placeholder 10" descr="silos and lorry.JPG"/>
          <p:cNvPicPr/>
          <p:nvPr/>
        </p:nvPicPr>
        <p:blipFill>
          <a:blip r:embed="rId2"/>
          <a:srcRect l="0" t="-17698" r="0" b="-17698"/>
          <a:stretch/>
        </p:blipFill>
        <p:spPr>
          <a:xfrm>
            <a:off x="457200" y="1920960"/>
            <a:ext cx="4038480" cy="4433760"/>
          </a:xfrm>
          <a:prstGeom prst="rect">
            <a:avLst/>
          </a:prstGeom>
          <a:ln w="0">
            <a:noFill/>
          </a:ln>
        </p:spPr>
      </p:pic>
      <p:pic>
        <p:nvPicPr>
          <p:cNvPr id="240" name="Content Placeholder 11" descr="hog grain storage.jpg"/>
          <p:cNvPicPr/>
          <p:nvPr/>
        </p:nvPicPr>
        <p:blipFill>
          <a:blip r:embed="rId3"/>
          <a:srcRect l="0" t="-24477" r="0" b="-24477"/>
          <a:stretch/>
        </p:blipFill>
        <p:spPr>
          <a:xfrm>
            <a:off x="4648320" y="1920960"/>
            <a:ext cx="4038480" cy="4433760"/>
          </a:xfrm>
          <a:prstGeom prst="rect">
            <a:avLst/>
          </a:prstGeom>
          <a:ln w="0">
            <a:noFill/>
          </a:ln>
        </p:spPr>
      </p:pic>
      <p:sp>
        <p:nvSpPr>
          <p:cNvPr id="241" name="TextBox 8"/>
          <p:cNvSpPr/>
          <p:nvPr/>
        </p:nvSpPr>
        <p:spPr>
          <a:xfrm>
            <a:off x="685800" y="57913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dengie-crops.com/media/silos%20and%20lorry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9"/>
          <p:cNvSpPr/>
          <p:nvPr/>
        </p:nvSpPr>
        <p:spPr>
          <a:xfrm>
            <a:off x="4724280" y="562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mawaterquality.org/gallery/photos/hog%20grain%20storag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alc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1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uncooked rice × 3 meals × 4 people × 50 families × 14 days = 840 000 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f uncooked r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840 0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= 0.84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ed has to have a volume of 0.84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r Proce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Resear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nsolid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nsw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*this is where a table will go*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his is where our answer will g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ust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ause like, it just is, m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(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-.- no, not really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is is where we write a justification that is not yet thought of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mean, we have to think about 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ow many people in a famil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61 children born/woman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(CIA World Factboo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und down to 2 childr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d 2 par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quals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people in a family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3" descr=""/>
          <p:cNvPicPr/>
          <p:nvPr/>
        </p:nvPicPr>
        <p:blipFill>
          <a:blip r:embed="rId2"/>
          <a:stretch/>
        </p:blipFill>
        <p:spPr>
          <a:xfrm>
            <a:off x="476280" y="1311120"/>
            <a:ext cx="7832520" cy="1492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art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ow much water does each person us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do we use water fo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is the best shape to store water 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do we use water fo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in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t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shing (dishes, laundr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ile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2286000"/>
            <a:ext cx="7770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How much water does an average person us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Internet research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newsobserver.com/weather/drought/story/1016009.htm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69.3 gallons per person for indoor purpos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laundry, shower, toilets, cooking, drinking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nvert into lit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 gallon = 3.78541178 litre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69.3 gallons ≈</a:t>
            </a:r>
            <a:r>
              <a:rPr b="0" lang="en-US" sz="2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ＭＳ ゴシック"/>
              </a:rPr>
              <a:t>263 lit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  <a:ea typeface="ＭＳ ゴシック"/>
              </a:rPr>
              <a:t>Leeway: 263 ± 2 litr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t is the best shape to store water 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rimeter and Circumference vs. Area (of 2-D object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ircle vs. Squa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al life exam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 cylinder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s the best shape to store water 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Content Placeholder 5" descr="{72ED8FC0-2FE1-4FAB-AAE2-484FF1A30A82}.JPG"/>
          <p:cNvPicPr/>
          <p:nvPr/>
        </p:nvPicPr>
        <p:blipFill>
          <a:blip r:embed="rId2"/>
          <a:srcRect l="-19287" t="0" r="-19287" b="0"/>
          <a:stretch/>
        </p:blipFill>
        <p:spPr>
          <a:xfrm>
            <a:off x="4648320" y="1920960"/>
            <a:ext cx="403848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alc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tal amount of water needed for entire villag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265L × 4 people × 50 families × 14 days = 742 000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Volume of storage tank: 742 000L of water = 742 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is estimation has more water capacity than is necessary because there is an extra 2 litres for every pers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1:12:13Z</dcterms:created>
  <dc:creator>Cara Leong</dc:creator>
  <dc:description/>
  <dc:language>en-US</dc:language>
  <cp:lastModifiedBy>Cara Leong</cp:lastModifiedBy>
  <dcterms:modified xsi:type="dcterms:W3CDTF">2008-11-30T11:53:36Z</dcterms:modified>
  <cp:revision>12</cp:revision>
  <dc:subject/>
  <dc:title>Storage Facilities</dc:title>
</cp:coreProperties>
</file>